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591-BFA6-4295-B311-886AB1C8AD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The gold was shrouded in mystery’ – T his word suggests that the treasure has been covered up, hidden or has links with the semantic field of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Thoughts and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your thoughts and feelings about the ex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the whol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bout part of the pa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 B1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2: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nct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Pro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extracts – 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- read the text really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- read question to make sure you understand exactly what it's as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- use skimming and scanning skills and annotate the text by underlining or high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Shows she is emotional, yet reserved, through the choice of the conditional verb ‘if’ and the repetition of the word’ cr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‘Frank found himself advancing alone through a wall of fog’ – The writer shows horror by highlighting isolation and using a metaphor for the weather which affects Frank’s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D58-F775-4893-BF59-28BF257B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4A8-FAEB-4AFA-AD84-E7D051F1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2A0-0C48-4838-BB8A-3CAC50FB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F32-CB79-483D-8B5C-EA3340AA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6285-8B1E-405C-8587-58213E38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5BD0-C135-4663-B283-27D4714B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A755-C528-4310-9BD6-344057F2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AB4E-B772-4D27-A85F-C0FD97B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024-64A6-4BCC-87E8-B99F650D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4A5D-BBEE-4DD7-86C2-1B660871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E9CB-8CFA-4666-BB49-1AE6F22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C4E-32B0-4ACF-AEF9-3EC714FC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E40A-C9F5-4ED5-BB78-BB443B7D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103B-0FF2-4D51-8A74-27FF345D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2C80-0263-4495-BB4D-35DE605B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7457-55F1-4191-9620-2345FAC6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F853-3579-487F-AD38-C058B12D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08A-2003-4E3A-825E-5B5119D9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0E9-6446-4E27-B53F-06F99C2E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9D4-AA7F-4485-B7A3-803787ED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D58-8B69-43B0-AD87-F0E22C75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071-2F93-4F2A-AE86-0EFBDFC8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547-FB9F-4316-8940-72F11C5A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7C3-90C9-4969-A4C1-C5ED4D57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7C54-A24B-4F47-9B81-332EE4C31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5556-64DF-4FA6-8329-315B9669D8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Paper 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Langu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– show you understand how a writer uses language fo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‘The gold was shrouded in mystery’ –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his word suggests that the treasure has been covered up, hidden or has links with the semantic field of deat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Questions: Thoughts and Feeling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cus: consider language, character and meaning and how they contribute and how they contribute to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oughts and feelings about the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 carefully at the task and what it asks you to do. 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th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whole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rite abou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of the pa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Writ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riting to descri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o choice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3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Narrative wri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5/6 choices gi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Complete one ta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pend 50 mins on this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1: Planning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Use the 5 sen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escribe minute detai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2: Plan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Vary punctu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Include: similes, metaphors, personification, alliteration, emotive languag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Use speech sparingl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5+ paragraph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84280"/>
          <a:ext cx="8229600" cy="431964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the end of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pause in a sent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longer pa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before a list or when giving evide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 ”  ‘ 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direct speech, a quotation or to show sarcas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unctu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484280"/>
          <a:ext cx="8229600" cy="4754520"/>
        </p:xfrm>
        <a:graphic>
          <a:graphicData uri="http://schemas.openxmlformats.org/drawingml/2006/table">
            <a:tbl>
              <a:tblPr/>
              <a:tblGrid>
                <a:gridCol w="874800"/>
                <a:gridCol w="73548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a ques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surprise, shock, humour or exciteme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words are missing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around an aside, or less important point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times used informally to show a pause, or to link two words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s possession or a missing letter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Proof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you spend 5 mins proof reading you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got para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used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you varied your punc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add anymore det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ld you vary vocab making it even more inter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Tests Read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4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Tests Writing Ski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 for B1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50 minutes for B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Rea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extracts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ndard comprehens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oks at :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ughts &amp;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Finding Informatio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rst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read the text really carefu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ead question to make sure you understand exactly what it's asking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use skimming and scanning skills and annotate the text by underlining or highligh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Charact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cus – Show that you understand how the writer creates characters using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and comment on words / sentences and why a writer has chosen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Eg: ‘If she could only cry now, cry for a long time over everything’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s she is emotional, yet reserved, through the choice of the conditional verb ‘if’ and the repetition of the word’ cr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Questions: Mean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cus: how the writer conveys emotions and atmosphere through the choices of language and literary dev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 ‘Frank found himself advancing alone through a wall of fog’ –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writer shows horror by highlighting isolation and using a metaphor for the weather which affects Frank’s 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15Z</dcterms:modified>
  <cp:revision>17</cp:revision>
  <dc:subject/>
  <dc:title>SATs</dc:title>
</cp:coreProperties>
</file>